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27.jpeg" ContentType="image/jpeg"/>
  <Override PartName="/ppt/media/image6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B6F-C000-44BB-AA9E-B3447FD0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A33-696D-41A5-93FF-73B6F9C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97C-32FD-48E5-AD22-B9CD0026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8F2-C7CC-4DFC-AA3C-34E15CCC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3C6F-BBFA-446B-9113-7508E2A6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684A-5DAF-480B-90E8-5CEA4290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5C51-0D0D-4F72-B496-39750F7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3AA-1AC5-49D4-8421-709FE62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9CB3-C696-47AD-9C1F-D0E62A64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3913-3782-400A-9A48-0461B97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083-2748-4701-A0B1-EAB808F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E1B-92F8-48C4-9526-C6CD63AD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C0B-95C3-4902-94B3-23A1951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36C9-344C-4243-B017-73849E4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ADE7-B4DE-47A4-BC83-E94772BA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83D-EFD6-48EC-8339-982A1414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ECD-3D9A-4C7B-9B82-9A1A27B8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310C-C8D6-4225-92E6-0216F948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84CC-FA14-46D0-91F9-2E15FD11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4842-E8D0-4408-9A4E-D1BA394D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F35B-35DE-49B7-AC23-C5FD7377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18FB-BD48-43AF-8EDD-6F91BB5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15C-3FD9-4FE9-A332-2F73E6E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0EA8-A3E9-4FC7-9789-A38A1D17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57C1-CDE4-424E-A569-9D3BFBC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5526-11CA-4F7D-BA9F-05E0669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BDF2-2F7E-473C-928E-9F6C516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2846-8B22-43B4-A5E2-9F7163E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88D5-E75D-44BF-BA4F-FD6DCBC9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F482-DFBE-486F-A43A-75FA18B1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E6A6-FC87-4F30-943D-CD6AEE5A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0B16-0866-485E-9E77-4D5D4F33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664C-5802-414F-A293-2793195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B70-87B6-4D5D-886B-5F25452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CB15-C5D8-4F3F-94D0-43EC5EC2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5DED-717F-47E8-8EE0-A744881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AD03-F9B4-4278-8B25-F1FE55D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6211-EF97-4BFA-A6D8-236C785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D762-5A02-44DD-B07E-7E828B0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936A-E155-4363-8841-FDC503A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7476-1120-4993-8E8A-36BF294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2938-8C80-4C7A-AB1E-E095D7F3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0207-F9F8-40D8-8FB7-016949A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65ED-423A-4F7E-8FC5-E72CCD68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2A0-7435-4154-B0BA-B6F6E05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F620-DB6C-4050-B37E-47D8114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F4FB9-1555-4DB2-8325-5693E3E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DD90-A3FE-49E9-BC26-419A71F1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A2B5-C88C-4BC2-918C-F55E7E8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56707-51AA-4D5E-8276-BBD86144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962F-8F9D-48B4-9A31-ECCE8A8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9D2A-6E1F-4107-8ECE-FA5AFB2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AC23-2361-4C9D-B3A1-B0E71C6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BB56-2F3B-4F54-891A-96BAF4C4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46CE-4718-4286-8DBC-7FCDACB6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F0D-2613-4145-82B4-43F2F48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2B6E-E7D2-446F-B306-00E638C8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D46F3-7464-4DCD-B201-D94628DE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ED58-A2DF-4ECD-8AC8-3BDCAD7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288DB-C890-4787-9CAA-EDAFF15E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BF9B2-4F5D-4899-A897-D91FC5A3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A3FF-2936-48CA-8D73-EB96F17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9F0C-8ED2-4555-9269-B9BAF2FD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9E30-912C-49EA-88D7-1EE33DB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92B5-B56E-48BD-A3AF-005EB51B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B5CF-2EAB-432E-A8F0-BE7ADA3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EF3-7D1E-49AB-B153-ACFB2FD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F3F7-CFC0-4BBE-B94C-AF7608F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23E8D-A63C-4CF4-BF47-3413466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3C1FC-D36A-4A16-A9F7-0C96B1BA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DFAC-F31A-4165-9E1F-062F5E42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E490A-6AA3-4B96-829E-FEEA195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36CC-6EE7-4112-8F7E-B0B1C0E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2F07-2D37-4098-85D2-503658A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D3D7-655F-44FC-AB4D-1A9FFEF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E7AFA-84B1-4BC6-97CB-82B7562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E3F82-E06D-4B3D-834D-8522482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577-75B9-4404-AAFB-1588008C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3968-425F-4B6C-92B8-7BBE660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03F7-F258-4C7C-8C9A-42BAD27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9036E-3F1A-4D2C-9ACA-235387A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19B0-15E0-4107-BD03-B14211F5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F746-C201-4526-9902-74B72F56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C6540-AC75-4622-B7CD-16206895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77FE-F40B-4C71-AE4D-E199B40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FAC08-982C-435A-A200-B1C4F4D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E65C-626A-4D83-B8A8-8BB3A449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8846F-C213-4644-9666-7CCA3BDC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84A-6702-4164-9072-FB9C7A6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EB8C8-3666-4B73-9AA3-18A28DB9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7A12B-9684-4BD9-969E-3215A33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0F5F4-5E40-4580-BF64-EF88C35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A9A68-F811-421D-9715-78814C5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5A9D-D20B-462C-8362-D423F7B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0DC0-8223-493E-8A5E-914A7AB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04112-A06E-4F1E-9860-1ADA8052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63ED-FA2C-4D6A-9AFA-6567959C255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F29-34D8-4183-A141-FE5EFF2DB17C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FA6-06F9-4D04-A5BE-FF13D18FE78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D77-0806-4EEF-84C0-D9F9550B04F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ECF-34D9-4DFD-933D-13DF70B619B6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30C2-6744-467A-B7A3-2C46D40B3AE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187-1D13-4EB4-A15A-802910E43F2B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E405-3910-4BB7-9BE1-D7BFBCF1FD08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juntadeandalucia.es/medioambiente/" TargetMode="External"/><Relationship Id="rId2" Type="http://schemas.openxmlformats.org/officeDocument/2006/relationships/hyperlink" Target="http://www.marm.es/portal/secciones/biodiversidad/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059680" cy="2859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4240" y="400032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3232"/>
                </a:solidFill>
                <a:latin typeface="Lucida Sans Unicode"/>
              </a:rPr>
              <a:t>Marta Camino Serra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23232"/>
                </a:solidFill>
                <a:latin typeface="Lucida Sans Unicode"/>
              </a:rPr>
              <a:t>Alberto Jiménez Gómez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857160" y="6072120"/>
            <a:ext cx="1317600" cy="511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286000" y="6072120"/>
            <a:ext cx="1617840" cy="558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4"/>
          <a:stretch/>
        </p:blipFill>
        <p:spPr>
          <a:xfrm>
            <a:off x="4000680" y="5929200"/>
            <a:ext cx="1514160" cy="716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5"/>
          <a:stretch/>
        </p:blipFill>
        <p:spPr>
          <a:xfrm>
            <a:off x="0" y="5786280"/>
            <a:ext cx="777960" cy="846360"/>
          </a:xfrm>
          <a:prstGeom prst="rect">
            <a:avLst/>
          </a:prstGeom>
          <a:ln w="0">
            <a:noFill/>
          </a:ln>
        </p:spPr>
      </p:pic>
      <p:pic>
        <p:nvPicPr>
          <p:cNvPr id="376" name="7 Imagen" descr="rosmarinustomentosus2.jpg"/>
          <p:cNvPicPr/>
          <p:nvPr/>
        </p:nvPicPr>
        <p:blipFill>
          <a:blip r:embed="rId6"/>
          <a:stretch/>
        </p:blipFill>
        <p:spPr>
          <a:xfrm>
            <a:off x="5214960" y="0"/>
            <a:ext cx="3929040" cy="1622520"/>
          </a:xfrm>
          <a:prstGeom prst="rect">
            <a:avLst/>
          </a:prstGeom>
          <a:ln w="0">
            <a:noFill/>
          </a:ln>
        </p:spPr>
      </p:pic>
      <p:sp>
        <p:nvSpPr>
          <p:cNvPr id="377" name="9 CuadroTexto"/>
          <p:cNvSpPr/>
          <p:nvPr/>
        </p:nvSpPr>
        <p:spPr>
          <a:xfrm>
            <a:off x="5682960" y="628668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O. Restauración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214960" y="1285560"/>
            <a:ext cx="4214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Variabilidad genética interpoblacional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¿Mezcla de material genético de tod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las poblaciones o sólo de las má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afines?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Tras el estudio poblacional…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Poblaciones estudiadas muestran estabilidad (</a:t>
            </a:r>
            <a:r>
              <a:rPr b="0" lang="el-GR" sz="1400" spc="-1" strike="noStrike">
                <a:solidFill>
                  <a:srgbClr val="000000"/>
                </a:solidFill>
                <a:latin typeface="Lucida Sans Unicode"/>
              </a:rPr>
              <a:t>λ≃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1) pero necesidad de medidas de conserv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¿Es correcto destinar recursos a las poblaciones menos estudiadas en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lugar de hacer refuerzos en las ya investigadas para asegurarnos el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éxito?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5072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4 Flecha derecha"/>
          <p:cNvSpPr/>
          <p:nvPr/>
        </p:nvSpPr>
        <p:spPr>
          <a:xfrm>
            <a:off x="2428920" y="1714680"/>
            <a:ext cx="1214280" cy="2854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5 Imagen" descr="ordenador.jpg"/>
          <p:cNvPicPr/>
          <p:nvPr/>
        </p:nvPicPr>
        <p:blipFill>
          <a:blip r:embed="rId2"/>
          <a:stretch/>
        </p:blipFill>
        <p:spPr>
          <a:xfrm>
            <a:off x="7072200" y="3214800"/>
            <a:ext cx="1143000" cy="1154160"/>
          </a:xfrm>
          <a:prstGeom prst="rect">
            <a:avLst/>
          </a:prstGeom>
          <a:ln w="0">
            <a:noFill/>
          </a:ln>
        </p:spPr>
      </p:pic>
      <p:sp>
        <p:nvSpPr>
          <p:cNvPr id="425" name="6 Flecha derecha"/>
          <p:cNvSpPr/>
          <p:nvPr/>
        </p:nvSpPr>
        <p:spPr>
          <a:xfrm rot="3622200">
            <a:off x="6031440" y="2455200"/>
            <a:ext cx="1214280" cy="2854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7 Imagen" descr="interr.jpg"/>
          <p:cNvPicPr/>
          <p:nvPr/>
        </p:nvPicPr>
        <p:blipFill>
          <a:blip r:embed="rId3"/>
          <a:stretch/>
        </p:blipFill>
        <p:spPr>
          <a:xfrm>
            <a:off x="4000680" y="1214280"/>
            <a:ext cx="1123920" cy="1057320"/>
          </a:xfrm>
          <a:prstGeom prst="rect">
            <a:avLst/>
          </a:prstGeom>
          <a:ln w="0">
            <a:noFill/>
          </a:ln>
        </p:spPr>
      </p:pic>
      <p:sp>
        <p:nvSpPr>
          <p:cNvPr id="427" name="10 Flecha izquierda"/>
          <p:cNvSpPr/>
          <p:nvPr/>
        </p:nvSpPr>
        <p:spPr>
          <a:xfrm>
            <a:off x="5429160" y="3500280"/>
            <a:ext cx="928800" cy="357480"/>
          </a:xfrm>
          <a:prstGeom prst="leftArrow">
            <a:avLst>
              <a:gd name="adj1" fmla="val 50000"/>
              <a:gd name="adj2" fmla="val 4996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11 Imagen" descr="objetivos.jpg"/>
          <p:cNvPicPr/>
          <p:nvPr/>
        </p:nvPicPr>
        <p:blipFill>
          <a:blip r:embed="rId4"/>
          <a:stretch/>
        </p:blipFill>
        <p:spPr>
          <a:xfrm>
            <a:off x="3786120" y="2857680"/>
            <a:ext cx="1162080" cy="1133280"/>
          </a:xfrm>
          <a:prstGeom prst="rect">
            <a:avLst/>
          </a:prstGeom>
          <a:ln w="0">
            <a:noFill/>
          </a:ln>
        </p:spPr>
      </p:pic>
      <p:sp>
        <p:nvSpPr>
          <p:cNvPr id="429" name="12 Flecha izquierda"/>
          <p:cNvSpPr/>
          <p:nvPr/>
        </p:nvSpPr>
        <p:spPr>
          <a:xfrm rot="20148000">
            <a:off x="2157120" y="369216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443520" y="4071960"/>
            <a:ext cx="21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lección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Material ge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Método de cul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dad de indivi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6 Rectángulo"/>
          <p:cNvSpPr/>
          <p:nvPr/>
        </p:nvSpPr>
        <p:spPr>
          <a:xfrm>
            <a:off x="1857240" y="578628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cripción del proceso de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7 Flecha derecha"/>
          <p:cNvSpPr/>
          <p:nvPr/>
        </p:nvSpPr>
        <p:spPr>
          <a:xfrm>
            <a:off x="4714920" y="5929200"/>
            <a:ext cx="1214280" cy="2858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8 Rectángulo"/>
          <p:cNvSpPr/>
          <p:nvPr/>
        </p:nvSpPr>
        <p:spPr>
          <a:xfrm>
            <a:off x="5929200" y="5786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 de monitorización y segu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9 Rectángulo"/>
          <p:cNvSpPr/>
          <p:nvPr/>
        </p:nvSpPr>
        <p:spPr>
          <a:xfrm>
            <a:off x="684360" y="242100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úsque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bli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0 Rectángulo"/>
          <p:cNvSpPr/>
          <p:nvPr/>
        </p:nvSpPr>
        <p:spPr>
          <a:xfrm>
            <a:off x="5214960" y="13572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c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re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1 Rectángulo"/>
          <p:cNvSpPr/>
          <p:nvPr/>
        </p:nvSpPr>
        <p:spPr>
          <a:xfrm>
            <a:off x="6819840" y="457200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ográf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26 Flecha derecha"/>
          <p:cNvSpPr/>
          <p:nvPr/>
        </p:nvSpPr>
        <p:spPr>
          <a:xfrm rot="2287800">
            <a:off x="1149480" y="5430960"/>
            <a:ext cx="803160" cy="2984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27 CuadroTexto"/>
          <p:cNvSpPr/>
          <p:nvPr/>
        </p:nvSpPr>
        <p:spPr>
          <a:xfrm>
            <a:off x="3371040" y="40006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3 Imagen" descr="libro.jpg"/>
          <p:cNvPicPr/>
          <p:nvPr/>
        </p:nvPicPr>
        <p:blipFill>
          <a:blip r:embed="rId5"/>
          <a:stretch/>
        </p:blipFill>
        <p:spPr>
          <a:xfrm>
            <a:off x="900000" y="1413000"/>
            <a:ext cx="1190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2000 de la Flora Vascular Españ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2008 de la Flora Vascular Españ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ibro Rojo de la Flora Silvestre Amenazada de Andaluc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blaciones en peligro: Viabilidad de la Flora Vascular Amenazada de España (20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6b9f25"/>
                </a:solidFill>
                <a:uFillTx/>
                <a:latin typeface="Lucida Sans Unicode"/>
                <a:hlinkClick r:id="rId1"/>
              </a:rPr>
              <a:t>http://www.juntadeandalucia.es/medioambiente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6b9f25"/>
                </a:solidFill>
                <a:uFillTx/>
                <a:latin typeface="Lucida Sans Unicode"/>
                <a:hlinkClick r:id="rId2"/>
              </a:rPr>
              <a:t>http://www.marm.es/portal/secciones/biodiversidad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2 Título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28760" y="4996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osuá, J.L.,1981. Anales Jardín Botánico de Madrid 37 (2): 587-5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bezudo et al, 2004. Aportaciones a la Flora de Andalucía III. Acta Botánica Malacitana 29.200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Cabezudo, B., et al. (1998). Convenio de cooperación entre la Consejería de Medio Ambiente y la Universidad de Málaga (Departamento de Biología Vegetal) para la recuperación y desarrollo de los planes de actuación de las especies vegetales amenazadas de Andaluc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Rosmarinus-tomentosus---Cer"/>
          <p:cNvPicPr/>
          <p:nvPr/>
        </p:nvPicPr>
        <p:blipFill>
          <a:blip r:embed="rId1"/>
          <a:srcRect l="0" t="0" r="-1027" b="11249"/>
          <a:stretch/>
        </p:blipFill>
        <p:spPr>
          <a:xfrm>
            <a:off x="3649680" y="0"/>
            <a:ext cx="54943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180720" y="11970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iología y Ecología de la espec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esgos y agentes de perturb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ección del tipo de restitución y Justific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bjetiv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todologí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Fuentes de inform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3 Imagen" descr="rosmarinustomentosus4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00040" y="1142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Rosmarinus tomentosus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ndemismo franja litoral Granada y Málaga.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talogación UIC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ño 2000: En Peligro Crít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ño 2008: En peligr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ociación </a:t>
            </a:r>
            <a:r>
              <a:rPr b="0" i="1" lang="es-ES_tradnl" sz="2700" spc="-1" strike="noStrike">
                <a:solidFill>
                  <a:srgbClr val="000000"/>
                </a:solidFill>
                <a:latin typeface="Lucida Sans Unicode"/>
              </a:rPr>
              <a:t>Rosmarinetum tomentosi</a:t>
            </a:r>
            <a:r>
              <a:rPr b="0" i="1" lang="es-ES_trad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_trad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Anexo I de la Directiva 92/43/CEE (Hábitats rocosos y cuevas y vegetación casmofítica de pendientes rocosa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2 Título" descr=""/>
          <p:cNvPicPr/>
          <p:nvPr/>
        </p:nvPicPr>
        <p:blipFill>
          <a:blip r:embed="rId1"/>
          <a:stretch/>
        </p:blipFill>
        <p:spPr>
          <a:xfrm>
            <a:off x="165240" y="133200"/>
            <a:ext cx="8497800" cy="1025640"/>
          </a:xfrm>
          <a:prstGeom prst="rect">
            <a:avLst/>
          </a:prstGeom>
          <a:ln w="0">
            <a:noFill/>
          </a:ln>
        </p:spPr>
      </p:pic>
      <p:pic>
        <p:nvPicPr>
          <p:cNvPr id="383" name="3 Imagen" descr="playa.bmp"/>
          <p:cNvPicPr/>
          <p:nvPr/>
        </p:nvPicPr>
        <p:blipFill>
          <a:blip r:embed="rId2"/>
          <a:srcRect l="0" t="0" r="0" b="6924"/>
          <a:stretch/>
        </p:blipFill>
        <p:spPr>
          <a:xfrm>
            <a:off x="5572080" y="1643040"/>
            <a:ext cx="3333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2 Imagen" descr="spain.jpg"/>
          <p:cNvPicPr/>
          <p:nvPr/>
        </p:nvPicPr>
        <p:blipFill>
          <a:blip r:embed="rId1"/>
          <a:stretch/>
        </p:blipFill>
        <p:spPr>
          <a:xfrm>
            <a:off x="0" y="100476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385" name="3 Rectángulo"/>
          <p:cNvSpPr/>
          <p:nvPr/>
        </p:nvSpPr>
        <p:spPr>
          <a:xfrm>
            <a:off x="3571920" y="5072040"/>
            <a:ext cx="642960" cy="285840"/>
          </a:xfrm>
          <a:prstGeom prst="rect">
            <a:avLst/>
          </a:prstGeom>
          <a:solidFill>
            <a:srgbClr val="f07f09">
              <a:alpha val="39000"/>
            </a:srgbClr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4 Imagen" descr="costa.jpg"/>
          <p:cNvPicPr/>
          <p:nvPr/>
        </p:nvPicPr>
        <p:blipFill>
          <a:blip r:embed="rId2"/>
          <a:stretch/>
        </p:blipFill>
        <p:spPr>
          <a:xfrm>
            <a:off x="0" y="100476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4292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19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Lucida Sans Unicode"/>
              </a:rPr>
              <a:t>Distribució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buClr>
                <a:srgbClr val="f07f09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19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5 Conector"/>
          <p:cNvSpPr/>
          <p:nvPr/>
        </p:nvSpPr>
        <p:spPr>
          <a:xfrm>
            <a:off x="4572000" y="442908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6 Conector"/>
          <p:cNvSpPr/>
          <p:nvPr/>
        </p:nvSpPr>
        <p:spPr>
          <a:xfrm>
            <a:off x="4724280" y="4581360"/>
            <a:ext cx="7164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7 Conector"/>
          <p:cNvSpPr/>
          <p:nvPr/>
        </p:nvSpPr>
        <p:spPr>
          <a:xfrm>
            <a:off x="5786280" y="4429080"/>
            <a:ext cx="7164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8 Conector"/>
          <p:cNvSpPr/>
          <p:nvPr/>
        </p:nvSpPr>
        <p:spPr>
          <a:xfrm>
            <a:off x="6357960" y="4572000"/>
            <a:ext cx="71280" cy="7128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9 Conector"/>
          <p:cNvSpPr/>
          <p:nvPr/>
        </p:nvSpPr>
        <p:spPr>
          <a:xfrm>
            <a:off x="6643800" y="442908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0 Conector"/>
          <p:cNvSpPr/>
          <p:nvPr/>
        </p:nvSpPr>
        <p:spPr>
          <a:xfrm>
            <a:off x="4357800" y="4286160"/>
            <a:ext cx="71280" cy="71640"/>
          </a:xfrm>
          <a:prstGeom prst="flowChartConnector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5 Multiplicar"/>
          <p:cNvSpPr/>
          <p:nvPr/>
        </p:nvSpPr>
        <p:spPr>
          <a:xfrm>
            <a:off x="6572160" y="4214880"/>
            <a:ext cx="214560" cy="500040"/>
          </a:xfrm>
          <a:prstGeom prst="pie">
            <a:avLst/>
          </a:prstGeom>
          <a:solidFill>
            <a:srgbClr val="f07f09"/>
          </a:solidFill>
          <a:ln w="55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6 Rectángulo"/>
          <p:cNvSpPr/>
          <p:nvPr/>
        </p:nvSpPr>
        <p:spPr>
          <a:xfrm>
            <a:off x="5500800" y="1143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81: 5 pob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Gr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>
            <a:off x="5286240" y="500076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008: 5 pob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Granada y Mál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8 CuadroTexto"/>
          <p:cNvSpPr/>
          <p:nvPr/>
        </p:nvSpPr>
        <p:spPr>
          <a:xfrm>
            <a:off x="506520" y="3357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L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9 CuadroTexto"/>
          <p:cNvSpPr/>
          <p:nvPr/>
        </p:nvSpPr>
        <p:spPr>
          <a:xfrm>
            <a:off x="5008320" y="3143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357440" y="1481040"/>
            <a:ext cx="4329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Caméfito subarbus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Multiplicación vegetativa por acodo (ocasionalmen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No regenera postfu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Alógama polinizada por abej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Tasa germinación media semillas: 50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Supervivencia plántulas invernadero baj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Buen desarrollo hasta fase adul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Variabilidad genética: niveles apreciables de diferenciación loc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28520" y="-6480"/>
            <a:ext cx="8844120" cy="1195560"/>
          </a:xfrm>
          <a:prstGeom prst="rect">
            <a:avLst/>
          </a:prstGeom>
          <a:ln w="0">
            <a:noFill/>
          </a:ln>
        </p:spPr>
      </p:pic>
      <p:pic>
        <p:nvPicPr>
          <p:cNvPr id="401" name="3 Imagen" descr="r.tomentosus.jpg"/>
          <p:cNvPicPr/>
          <p:nvPr/>
        </p:nvPicPr>
        <p:blipFill>
          <a:blip r:embed="rId2"/>
          <a:stretch/>
        </p:blipFill>
        <p:spPr>
          <a:xfrm>
            <a:off x="642960" y="1500120"/>
            <a:ext cx="34192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760" y="100008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antilados y roquedos marinos (dolomías y mármoles) expuestos y de interi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pecies acompañantes: 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Asteriscus marítimus, Rosmarinus officinalis, Maytenus senegalensis subsp. europa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2 Título" descr=""/>
          <p:cNvPicPr/>
          <p:nvPr/>
        </p:nvPicPr>
        <p:blipFill>
          <a:blip r:embed="rId1"/>
          <a:stretch/>
        </p:blipFill>
        <p:spPr>
          <a:xfrm>
            <a:off x="-231840" y="-6480"/>
            <a:ext cx="8937720" cy="1195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5429160" y="4070520"/>
            <a:ext cx="37148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928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trucción de carret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rbanizacio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ur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combr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pecies exóticas invaso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ibridación con </a:t>
            </a:r>
            <a:r>
              <a:rPr b="0" i="1" lang="es-ES" sz="2700" spc="-1" strike="noStrike">
                <a:solidFill>
                  <a:srgbClr val="000000"/>
                </a:solidFill>
                <a:latin typeface="Lucida Sans Unicode"/>
              </a:rPr>
              <a:t>R. officinal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2 Título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52804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3 Imagen" descr="torremaro1.jpg"/>
          <p:cNvPicPr/>
          <p:nvPr/>
        </p:nvPicPr>
        <p:blipFill>
          <a:blip r:embed="rId2"/>
          <a:stretch/>
        </p:blipFill>
        <p:spPr>
          <a:xfrm>
            <a:off x="3571920" y="1303200"/>
            <a:ext cx="4770360" cy="3578400"/>
          </a:xfrm>
          <a:prstGeom prst="rect">
            <a:avLst/>
          </a:prstGeom>
          <a:ln w="0">
            <a:noFill/>
          </a:ln>
        </p:spPr>
      </p:pic>
      <p:pic>
        <p:nvPicPr>
          <p:cNvPr id="408" name="4 Imagen" descr="20060219010418-autovia.jpg"/>
          <p:cNvPicPr/>
          <p:nvPr/>
        </p:nvPicPr>
        <p:blipFill>
          <a:blip r:embed="rId3"/>
          <a:stretch/>
        </p:blipFill>
        <p:spPr>
          <a:xfrm>
            <a:off x="3602160" y="1413000"/>
            <a:ext cx="5541840" cy="3857400"/>
          </a:xfrm>
          <a:prstGeom prst="rect">
            <a:avLst/>
          </a:prstGeom>
          <a:ln w="0">
            <a:noFill/>
          </a:ln>
        </p:spPr>
      </p:pic>
      <p:pic>
        <p:nvPicPr>
          <p:cNvPr id="409" name="5 Imagen" descr="DSCN0156.JPG"/>
          <p:cNvPicPr/>
          <p:nvPr/>
        </p:nvPicPr>
        <p:blipFill>
          <a:blip r:embed="rId4"/>
          <a:srcRect l="39063" t="38542" r="0" b="0"/>
          <a:stretch/>
        </p:blipFill>
        <p:spPr>
          <a:xfrm>
            <a:off x="3571920" y="857160"/>
            <a:ext cx="4911840" cy="3714840"/>
          </a:xfrm>
          <a:prstGeom prst="rect">
            <a:avLst/>
          </a:prstGeom>
          <a:ln w="0">
            <a:noFill/>
          </a:ln>
        </p:spPr>
      </p:pic>
      <p:pic>
        <p:nvPicPr>
          <p:cNvPr id="410" name="6 Imagen" descr="rosmofficinalis.jpg"/>
          <p:cNvPicPr/>
          <p:nvPr/>
        </p:nvPicPr>
        <p:blipFill>
          <a:blip r:embed="rId5"/>
          <a:stretch/>
        </p:blipFill>
        <p:spPr>
          <a:xfrm>
            <a:off x="5796000" y="1197000"/>
            <a:ext cx="30574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92844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fuerzo de las poblaciones de Almuñécar (Punta la Mona) y Nerja (Río Chíllar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2 Título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0" y="1785960"/>
            <a:ext cx="5072040" cy="3963960"/>
          </a:xfrm>
          <a:prstGeom prst="rect">
            <a:avLst/>
          </a:prstGeom>
          <a:ln w="0">
            <a:noFill/>
          </a:ln>
        </p:spPr>
      </p:pic>
      <p:sp>
        <p:nvSpPr>
          <p:cNvPr id="414" name="4 Rectángulo"/>
          <p:cNvSpPr/>
          <p:nvPr/>
        </p:nvSpPr>
        <p:spPr>
          <a:xfrm>
            <a:off x="5143680" y="2214720"/>
            <a:ext cx="40003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Justificació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Existencia de poblaciones en peligro y con escaso número d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3"/>
          <a:stretch/>
        </p:blipFill>
        <p:spPr>
          <a:xfrm>
            <a:off x="4703760" y="4643280"/>
            <a:ext cx="4440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Aumentar el tamaño poblacional de las dos localidades con menor número de individuos para asegurar su persistenc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Específic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Conseguir 300 individuos en 10 años en las dos poblaciones llegando a una tendencia poblacional esta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3 Imagen" descr="rosmarinustomentosus5.jpg"/>
          <p:cNvPicPr/>
          <p:nvPr/>
        </p:nvPicPr>
        <p:blipFill>
          <a:blip r:embed="rId2"/>
          <a:stretch/>
        </p:blipFill>
        <p:spPr>
          <a:xfrm>
            <a:off x="7000920" y="5226120"/>
            <a:ext cx="21430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07:58Z</dcterms:created>
  <dc:creator>pantera</dc:creator>
  <dc:description/>
  <dc:language>en-US</dc:language>
  <cp:lastModifiedBy>pantera</cp:lastModifiedBy>
  <dcterms:modified xsi:type="dcterms:W3CDTF">2009-04-24T11:08:25Z</dcterms:modified>
  <cp:revision>51</cp:revision>
  <dc:subject/>
  <dc:title>Diapositiva 1</dc:title>
</cp:coreProperties>
</file>